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DD36-F76E-4478-854F-7C2CC4348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688E-70E2-4D49-92DA-D8B030FF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EDED-D65C-4289-A368-A4B3D80D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52F9-ED96-44B3-A22D-5555701D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8269-10C2-4191-9F5F-F5A2E429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E1DF-52CA-45AF-BEEC-8B0C9E3A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753B-F591-4946-BEB9-E87B4530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F0B3-F811-4ADA-985E-5F8310A7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8D16-9E0B-4769-83AF-002E4312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9DE1-A4E4-4F1D-97B5-AC26485C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BEA1-01E7-44C5-869C-4CE6EE21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A5E0-86EC-4C04-AD31-B28BF68B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282A-7A4C-42F9-8B07-BCB03CBC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FDA6-47EE-4A1C-90A4-DEDE0023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E67C-6774-413A-A4A6-57ABBDA7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C874-44C0-424F-AD1F-B0B02155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FC76-12D5-4064-8461-2F39B099E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0395-AFEF-4DF8-9D15-4460AB0F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58E8-9B70-4EBF-BCCF-FAD5E1A9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A39A-C00F-4AFD-BE77-0CBEDE99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B8CB-3486-4F45-A83C-D2BC37BB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04B7-EC5C-41C9-BCFF-23359AD5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D61C-AE57-43E7-A69C-0111D2A1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053B-AF65-4670-BF1A-F6C520CE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0384-81F6-4F1A-B190-1C525206F1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3A34-49E8-4EEF-8B6A-DBFB3AB22D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47280" y="1143000"/>
            <a:ext cx="71391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Cell injury and Cellular Adaptive Changes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42560" y="3933360"/>
            <a:ext cx="77770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artment of pathophys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aculty of medical sc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versity of Kragujev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5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trophy</a:t>
            </a:r>
            <a:r>
              <a:rPr b="0" lang="en-US" sz="4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sl-SI" sz="3000" spc="-1" strike="noStrike">
                <a:solidFill>
                  <a:srgbClr val="303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reversible </a:t>
            </a:r>
            <a:r>
              <a:rPr b="1" lang="sl-SI" sz="3000" spc="-1" strike="noStrike">
                <a:solidFill>
                  <a:srgbClr val="303000"/>
                </a:solidFill>
                <a:latin typeface="Times New Roman"/>
              </a:rPr>
              <a:t>cell size reduction)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844280"/>
            <a:ext cx="8130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s of atroph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decreased work loa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use atroph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loss of nerve supp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ervation atroph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decreased blood sup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reduced endocrine stimulation </a:t>
            </a:r>
            <a:br>
              <a:rPr sz="3200"/>
            </a:b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303000"/>
                </a:solidFill>
                <a:latin typeface="Times New Roman"/>
              </a:rPr>
              <a:t>uterine atrophy after menopause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gin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ile atroph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7872480" y="34142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ypertrophy</a:t>
            </a:r>
            <a:br>
              <a:rPr sz="4200"/>
            </a:br>
            <a:r>
              <a:rPr b="1" lang="sl-SI" sz="2900" spc="-1" strike="noStrike">
                <a:solidFill>
                  <a:srgbClr val="303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303000"/>
                </a:solidFill>
                <a:latin typeface="Times New Roman"/>
              </a:rPr>
              <a:t>increased cell size</a:t>
            </a:r>
            <a:r>
              <a:rPr b="1" lang="sl-SI" sz="2900" spc="-1" strike="noStrike">
                <a:solidFill>
                  <a:srgbClr val="303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560" y="1052280"/>
            <a:ext cx="831708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s of hypertroph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hysiological</a:t>
            </a:r>
            <a:r>
              <a:rPr b="0" lang="en-US" sz="36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hypertroph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muscle hypertrophy in athle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athological</a:t>
            </a:r>
            <a:r>
              <a:rPr b="0" lang="en-US" sz="36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hypertroph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left heart ventricular hypertrophy due to the arterial      hyperten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ompensatory</a:t>
            </a:r>
            <a:r>
              <a:rPr b="0" lang="en-US" sz="36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hypertroph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in paired organs, hypertrophy of remaining kidne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yperplasia</a:t>
            </a:r>
            <a:br>
              <a:rPr sz="4200"/>
            </a:br>
            <a:r>
              <a:rPr b="1" lang="sl-SI" sz="3800" spc="-1" strike="noStrike">
                <a:solidFill>
                  <a:srgbClr val="303000"/>
                </a:solidFill>
                <a:latin typeface="Times New Roman"/>
              </a:rPr>
              <a:t>(cell number increase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77336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</a:t>
            </a:r>
            <a:r>
              <a:rPr b="0" lang="sr-C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hyperplas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hysiologi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ase of hormonal stimulation: occurs in pregna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mpensat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n case of regeneration:when part of liver is destroy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athologi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bnormal stimulation of organs with cells that are capable of regene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etaplas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806436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ble change in whic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 typ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ult cell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is replac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other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usually a response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onic inflammation or irr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n adaptive substitution of one cell type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more sui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he hostile environment for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Replacement of the normal ciliated goblet cells of the bronchial tree by squamous epithelial cells in chronic smok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isplas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68204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s to the appearance of cells that have undergone som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ypical chang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response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onic irr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typical hyperplasi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anged cell growth of specific tissue results in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abnormal size, shape, and appea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controlled reproduction of cells, b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osely related to malignant trans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pithelial cells are common sites for dysplastic changes: Bronchial epithelium, Cervical epithelium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Cell inju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 injury can be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ubleth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leth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ublethal injur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ters functions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without causing cell dea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s of cell injury are the same causes of cellular adaptive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Causes of cell inj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5412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hysical ag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65300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hemical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xic sub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Biological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uses, bacteria, fungi, protoz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Nutr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ss / de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imes New Roman"/>
              </a:rPr>
              <a:t>To remember the causes of cell injury, think of how the injury tipped (or TIPD) the homeostasis: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in or other lethal (cytotoxic)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sical in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cit, or lack of water, oxygen, or nutr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5435640" y="3933720"/>
            <a:ext cx="3313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ell injury by…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Free oxygen radic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Hypoxia / ische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88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Times New Roman"/>
              </a:rPr>
              <a:t>1. Free oxygen radicals</a:t>
            </a:r>
            <a:br>
              <a:rPr sz="44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unpaired electr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 electron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paired electr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 cause of th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nstabi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tends to go into a stabl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free radicals are formed in 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tions with molecules from 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ree radicals also react with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cture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cont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ive cell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s and mechanism of reversible cell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s and mechanism of irreversible cell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s of cell death: apoptosis and necr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70c0"/>
                </a:solidFill>
                <a:latin typeface="Times New Roman"/>
              </a:rPr>
              <a:t>Free radicals can form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physiological condi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g phagocyt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action of etiological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70c0"/>
                </a:solidFill>
                <a:latin typeface="Times New Roman"/>
              </a:rPr>
              <a:t>Free radical formation increases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560" y="1676160"/>
            <a:ext cx="8317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orption of ionizing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ctivation of free radical elimination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schemic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ment of normal blood flow in ische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sue (reperfusion inj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4859280" y="4314960"/>
            <a:ext cx="428472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ree radicals react with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cc3300"/>
                </a:solidFill>
                <a:latin typeface="Times New Roman"/>
              </a:rPr>
              <a:t>DN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molecule breaks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roteins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cleavage polypeptide chai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lipids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</a:rPr>
              <a:t>(lipid peroxidation occu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1174680" y="1009800"/>
            <a:ext cx="2178000" cy="54784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900000" y="228600"/>
            <a:ext cx="7488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Radiation-induced DNA da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174680" y="1009800"/>
            <a:ext cx="2178000" cy="547848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3"/>
          <p:cNvSpPr/>
          <p:nvPr/>
        </p:nvSpPr>
        <p:spPr>
          <a:xfrm>
            <a:off x="4572000" y="1905120"/>
            <a:ext cx="2362320" cy="459720"/>
          </a:xfrm>
          <a:prstGeom prst="borderCallout1">
            <a:avLst>
              <a:gd name="adj1" fmla="val 18750"/>
              <a:gd name="adj2" fmla="val -8333"/>
              <a:gd name="adj3" fmla="val 247726"/>
              <a:gd name="adj4" fmla="val -104296"/>
            </a:avLst>
          </a:prstGeom>
          <a:solidFill>
            <a:srgbClr val="cdc7c2"/>
          </a:solidFill>
          <a:ln w="28440">
            <a:solidFill>
              <a:srgbClr val="1822cd"/>
            </a:solidFill>
            <a:miter/>
            <a:headEnd len="med" type="triangle" w="med"/>
          </a:ln>
          <a:effectLst>
            <a:outerShdw dist="17819" dir="2700000" blurRad="0" rotWithShape="0">
              <a:srgbClr val="ffff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881360" y="2911320"/>
            <a:ext cx="217440" cy="2764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d181e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042920" y="228600"/>
            <a:ext cx="7561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Radiation-induced DNA da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179360" y="1014480"/>
            <a:ext cx="2178360" cy="54784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3"/>
          <p:cNvSpPr/>
          <p:nvPr/>
        </p:nvSpPr>
        <p:spPr>
          <a:xfrm>
            <a:off x="4572000" y="2610000"/>
            <a:ext cx="2808360" cy="459720"/>
          </a:xfrm>
          <a:prstGeom prst="borderCallout1">
            <a:avLst>
              <a:gd name="adj1" fmla="val 18750"/>
              <a:gd name="adj2" fmla="val -8333"/>
              <a:gd name="adj3" fmla="val 189277"/>
              <a:gd name="adj4" fmla="val -97958"/>
            </a:avLst>
          </a:prstGeom>
          <a:solidFill>
            <a:srgbClr val="cdc7c2"/>
          </a:solidFill>
          <a:ln w="28440">
            <a:solidFill>
              <a:srgbClr val="1822cd"/>
            </a:solidFill>
            <a:miter/>
            <a:headEnd len="med" type="triangle" w="med"/>
          </a:ln>
          <a:effectLst>
            <a:outerShdw dist="17819" dir="2700000" blurRad="0" rotWithShape="0">
              <a:srgbClr val="ffff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a d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9000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Radiation-induced DNA da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170000" y="1022400"/>
            <a:ext cx="2178000" cy="547848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3"/>
          <p:cNvSpPr/>
          <p:nvPr/>
        </p:nvSpPr>
        <p:spPr>
          <a:xfrm>
            <a:off x="5435640" y="2205000"/>
            <a:ext cx="3155760" cy="825480"/>
          </a:xfrm>
          <a:prstGeom prst="borderCallout1">
            <a:avLst>
              <a:gd name="adj1" fmla="val 18750"/>
              <a:gd name="adj2" fmla="val -8333"/>
              <a:gd name="adj3" fmla="val 327981"/>
              <a:gd name="adj4" fmla="val -101949"/>
            </a:avLst>
          </a:prstGeom>
          <a:solidFill>
            <a:srgbClr val="cdc7c2"/>
          </a:solidFill>
          <a:ln w="28440">
            <a:solidFill>
              <a:srgbClr val="1822c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inter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971640" y="228600"/>
            <a:ext cx="7632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Radiation-induced DNA da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168560" y="1014480"/>
            <a:ext cx="2178000" cy="547848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4572000" y="1676520"/>
            <a:ext cx="2514600" cy="459720"/>
          </a:xfrm>
          <a:prstGeom prst="borderCallout1">
            <a:avLst>
              <a:gd name="adj1" fmla="val 18750"/>
              <a:gd name="adj2" fmla="val -8333"/>
              <a:gd name="adj3" fmla="val 57351"/>
              <a:gd name="adj4" fmla="val -61962"/>
            </a:avLst>
          </a:prstGeom>
          <a:solidFill>
            <a:srgbClr val="cdc7c2"/>
          </a:solidFill>
          <a:ln w="28440">
            <a:solidFill>
              <a:srgbClr val="1822c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Radiation-induced DNA damag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2178360" cy="54784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4"/>
          <p:cNvSpPr/>
          <p:nvPr/>
        </p:nvSpPr>
        <p:spPr>
          <a:xfrm>
            <a:off x="4724280" y="3159000"/>
            <a:ext cx="2362320" cy="825480"/>
          </a:xfrm>
          <a:prstGeom prst="borderCallout1">
            <a:avLst>
              <a:gd name="adj1" fmla="val 18750"/>
              <a:gd name="adj2" fmla="val -8333"/>
              <a:gd name="adj3" fmla="val -115296"/>
              <a:gd name="adj4" fmla="val -75513"/>
            </a:avLst>
          </a:prstGeom>
          <a:solidFill>
            <a:srgbClr val="cdc7c2"/>
          </a:solidFill>
          <a:ln w="28440">
            <a:solidFill>
              <a:srgbClr val="1822c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-stranded br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990720" y="1905120"/>
            <a:ext cx="533160" cy="152280"/>
          </a:xfrm>
          <a:prstGeom prst="line">
            <a:avLst/>
          </a:prstGeom>
          <a:ln w="28440">
            <a:solidFill>
              <a:srgbClr val="1822c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9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Radiation-induced DNA damag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F3-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619280" y="549360"/>
            <a:ext cx="5400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353520"/>
            <a:ext cx="77724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Hypoxia-induced injuri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459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xia can result f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ufficient oxygen concentration in the 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and cardiovascular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ll inability to utilize oxy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 hypoxia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s oxidative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erobic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glycoly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zymes are ac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ic acid is accumulated and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 is low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educed ATP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dequate functioning of the Na-K p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N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centration and water in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 cell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mage of cell and cell orga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Once again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the differences between reversiable and irreversible cell injuries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Reversible vs. Irreversible Cell inju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. Reversible cell injury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be revers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cause of injury is remo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Ischemi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fers to a critical lack of blood supply to a localized are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gina pector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ccurs in the presence of atherosclerosis in the blood vess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2. Irreversible cell injury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not be corr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cause has been remo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arc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ocalized area of tissue death due to lack of blood supp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560" y="3045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Reversible and irreversible cell injur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3" name="Picture 6" descr="S01871-001-f008"/>
          <p:cNvPicPr/>
          <p:nvPr/>
        </p:nvPicPr>
        <p:blipFill>
          <a:blip r:embed="rId1"/>
          <a:stretch/>
        </p:blipFill>
        <p:spPr>
          <a:xfrm>
            <a:off x="1619280" y="1612800"/>
            <a:ext cx="6553080" cy="524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Irreversible cell injury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ell deat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r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opt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4572000" y="2276640"/>
            <a:ext cx="397512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539640" y="620640"/>
          <a:ext cx="8153640" cy="5799240"/>
        </p:xfrm>
        <a:graphic>
          <a:graphicData uri="http://schemas.openxmlformats.org/drawingml/2006/table">
            <a:tbl>
              <a:tblPr/>
              <a:tblGrid>
                <a:gridCol w="3888000"/>
                <a:gridCol w="426564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crosi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optosi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7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thological appea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siological or pathological appea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7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l swell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l size redu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7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ludes a group of ce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ludes only one c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7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gulation necro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romatin condens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7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gradation of cellular compon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ation of apoptotic bod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7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ce of inflam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sence of inflam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7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70c0"/>
                </a:solidFill>
                <a:latin typeface="Times New Roman"/>
              </a:rPr>
              <a:t>Apoptosis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pto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programmed cell dea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activ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occurs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ysiologic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thologic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ned to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a singl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cell death program is activated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06668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1066680" y="1676520"/>
            <a:ext cx="77724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by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inding the activating ligand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to the receptor at the target cell membrane </a:t>
            </a:r>
            <a:r>
              <a:rPr b="1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extrinsic path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he absence of a stimulus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hormone or cytokine) necessary for cell survival </a:t>
            </a:r>
            <a:r>
              <a:rPr b="1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intrinsic path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574800" y="26028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굴림"/>
              </a:rPr>
              <a:t>Apopt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373400" y="1069920"/>
            <a:ext cx="685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extrinsic pathway           intrinsic path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4"/>
          <p:cNvSpPr/>
          <p:nvPr/>
        </p:nvSpPr>
        <p:spPr>
          <a:xfrm>
            <a:off x="2451240" y="1790640"/>
            <a:ext cx="1511280" cy="5335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952" h="336">
                <a:moveTo>
                  <a:pt x="136" y="0"/>
                </a:moveTo>
                <a:cubicBezTo>
                  <a:pt x="68" y="44"/>
                  <a:pt x="0" y="88"/>
                  <a:pt x="136" y="144"/>
                </a:cubicBezTo>
                <a:cubicBezTo>
                  <a:pt x="272" y="200"/>
                  <a:pt x="612" y="268"/>
                  <a:pt x="952" y="336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5"/>
          <p:cNvSpPr/>
          <p:nvPr/>
        </p:nvSpPr>
        <p:spPr>
          <a:xfrm flipH="1">
            <a:off x="5418000" y="1790640"/>
            <a:ext cx="1511280" cy="533520"/>
          </a:xfrm>
          <a:custGeom>
            <a:avLst/>
            <a:gdLst>
              <a:gd name="textAreaLeft" fmla="*/ 360 w 1511280"/>
              <a:gd name="textAreaRight" fmla="*/ 1512000 w 15112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952" h="336">
                <a:moveTo>
                  <a:pt x="136" y="0"/>
                </a:moveTo>
                <a:cubicBezTo>
                  <a:pt x="68" y="44"/>
                  <a:pt x="0" y="88"/>
                  <a:pt x="136" y="144"/>
                </a:cubicBezTo>
                <a:cubicBezTo>
                  <a:pt x="272" y="200"/>
                  <a:pt x="612" y="268"/>
                  <a:pt x="952" y="336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3082320" y="2652840"/>
            <a:ext cx="3493800" cy="520560"/>
          </a:xfrm>
          <a:prstGeom prst="rect">
            <a:avLst/>
          </a:prstGeom>
          <a:noFill/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굴림"/>
              </a:rPr>
              <a:t>Mitochondrial sig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4800600" y="3276720"/>
            <a:ext cx="0" cy="4572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949400" y="3643200"/>
            <a:ext cx="59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  <a:ea typeface="굴림"/>
              </a:rPr>
              <a:t>cascade activation of caspase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>
            <a:off x="4805280" y="4191120"/>
            <a:ext cx="0" cy="4572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663560" y="4559400"/>
            <a:ext cx="627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  <a:ea typeface="굴림"/>
              </a:rPr>
              <a:t>cleavage of proteins and DNA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1"/>
          <p:cNvSpPr/>
          <p:nvPr/>
        </p:nvSpPr>
        <p:spPr>
          <a:xfrm>
            <a:off x="4799160" y="5078520"/>
            <a:ext cx="0" cy="4572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022040" y="5445000"/>
            <a:ext cx="77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  <a:ea typeface="굴림"/>
              </a:rPr>
              <a:t>phagocytosis of apoptotic bodies, no inflam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The cell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sic unit of structure and function of all living be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human body - more than 75 trillion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d cells - replaced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s that have been damag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various etiological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also res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5940360" y="3357720"/>
            <a:ext cx="2975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Apoptos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5" name="Picture 6" descr="S01871-001-f028"/>
          <p:cNvPicPr/>
          <p:nvPr/>
        </p:nvPicPr>
        <p:blipFill>
          <a:blip r:embed="rId1"/>
          <a:stretch/>
        </p:blipFill>
        <p:spPr>
          <a:xfrm>
            <a:off x="1258920" y="1413000"/>
            <a:ext cx="7416720" cy="514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issue healing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6560" y="1676520"/>
            <a:ext cx="831708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al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inflammatory response is he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the two major components: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regene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re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ener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replacement of lost cell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sues with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cells of the same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ai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healing as a result of lost cells being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replaced by connective tiss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air is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re common typ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healing and usually results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r forma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Regener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26560" y="1628640"/>
            <a:ext cx="7993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of cells to regenerate depends on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ll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ile cel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cells of the skin, lymphoi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s, bone marrow…)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divide constant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Injury to these organs is followed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pid regene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ble cell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in their ability to regenerate but do so only if the organism injured (liver cells, bone cell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manent cell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not regener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eurons and cardiac muscle cells). Damage to these cells can lead to permanent los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Ques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List the types of cellular adaptive chan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hich of the following adaptive change have higher chance of malignant trans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Hyperpl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Hypertro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Dyspl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 None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Adaptive changes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22046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l's response to inju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lves the onset of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daptive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daptive cell change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280" y="1676160"/>
            <a:ext cx="820908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in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ell size, number or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occu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the normal life cyc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by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of an environmental stim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may be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empor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erma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istinguish: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trophy, hypertrophy, hyperplasia, metaplasia and dyspl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319040" y="800280"/>
            <a:ext cx="650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618480"/>
            <a:ext cx="8874000" cy="57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ress /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f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omeost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                       ↓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cell response throug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ADAP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atrophy, hypertrophy, hyperplasia, metaplasia and dysplasia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fur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reversible injury occ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ell swell,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tty degeneratio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can progress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irreversible inju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crosis, apoptos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Object 2"/>
          <p:cNvGraphicFramePr/>
          <p:nvPr/>
        </p:nvGraphicFramePr>
        <p:xfrm>
          <a:off x="900000" y="981000"/>
          <a:ext cx="770436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981000"/>
                    <a:ext cx="770436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1"/>
          <p:cNvSpPr/>
          <p:nvPr/>
        </p:nvSpPr>
        <p:spPr>
          <a:xfrm>
            <a:off x="1869840" y="276120"/>
            <a:ext cx="614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The outcome of cellular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6:53:45Z</dcterms:created>
  <dc:creator>Simonovic</dc:creator>
  <dc:description/>
  <dc:language>en-US</dc:language>
  <cp:lastModifiedBy>User</cp:lastModifiedBy>
  <dcterms:modified xsi:type="dcterms:W3CDTF">2023-10-28T17:54:01Z</dcterms:modified>
  <cp:revision>192</cp:revision>
  <dc:subject/>
  <dc:title>POVREDA ĆELIJE  REAKCIJA ĆELIJE NA POVREDU</dc:title>
</cp:coreProperties>
</file>